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2.wmf" ContentType="image/x-wmf"/>
  <Override PartName="/ppt/media/image23.jpeg" ContentType="image/jpeg"/>
  <Override PartName="/ppt/media/image26.jpeg" ContentType="image/jpeg"/>
  <Override PartName="/ppt/media/image1.png" ContentType="image/png"/>
  <Override PartName="/ppt/media/image25.jpeg" ContentType="image/jpeg"/>
  <Override PartName="/ppt/media/image24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93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CB7B-E34B-45D8-9F5E-8D678C0D5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C0E7-2CEE-49C8-A60D-B39E47E8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B935-CACB-46EC-A330-273ECF579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6544-956C-4779-AF13-D58D10F11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4A047-A108-4B0A-8A66-A01433C58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89FC7-4494-47AF-95C1-97DD45A6F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D2808-3157-4A08-BBB7-2019D50B3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3C7C3-7968-4659-9671-3729E535D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93E2-1A0A-4085-BFC0-6A24BBA64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C9DE-FB0E-4DB3-B9FE-54CC1500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CC5B5-417F-467E-8033-0F97222AB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B6DB-30F7-403F-9E58-1C5ABFA5F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D7F76-0B72-4C2C-A34C-4BA0CA1C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A032C-68EA-4AB6-997A-FD7473663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C149B-F230-43AA-99D1-6684A3BE3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68935-6341-41A0-9029-B5137D13B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72108-2D2D-4B81-8A62-0C6F1C9D7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431A2-C526-4A21-A5BE-CE000D09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78C80-B52A-4DBB-A658-CD79D82FA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F891-7501-4F95-A7E4-E9EB4F847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05BB-FBF6-4BE9-A406-29F3ADFCD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166C-55F2-4F25-AD2D-727BE753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76A0-6D00-4E5C-96CC-42EBE037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B43E-41E6-48A6-82D0-FB8E7A03A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A3550-8B3F-48EA-9334-14D5BBE3320D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8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1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1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3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5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1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A065-59DB-4A05-ACF2-BAB422481C5F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1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8.jpeg"/><Relationship Id="rId10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c/c3/Herpes_zoster_back.png" TargetMode="External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5.jpeg"/><Relationship Id="rId6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image" Target="../media/image3.png"/><Relationship Id="rId1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ИЗАЗВ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НЕ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Х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E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РПЕС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ВИРУСИМ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Проф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др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Жељко</a:t>
            </a: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Мијаиловић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но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ч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ш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глав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ре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6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7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теж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су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ч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рек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тру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ки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кре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патолош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го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пласт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орм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99036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Инфекциј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узрокован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ХХВ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-7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914040"/>
            <a:ext cx="784872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иц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4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луч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љувачк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рект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пљич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у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глав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ље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5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6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х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ит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4x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орас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титр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парни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узорци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ерум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</a:rPr>
              <a:t>сероконверз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7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граниче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ед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Инфекциј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узрокован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ХХВ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-8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1760" y="1218960"/>
            <a:ext cx="78483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д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крив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ум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ез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ум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плазм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су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у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т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пошијев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рком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HV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пошије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рк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haemangiosarcom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дула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скула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зниц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цер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билиј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Picture 9" descr=""/>
          <p:cNvPicPr/>
          <p:nvPr/>
        </p:nvPicPr>
        <p:blipFill>
          <a:blip r:embed="rId1"/>
          <a:stretch/>
        </p:blipFill>
        <p:spPr>
          <a:xfrm>
            <a:off x="4952880" y="609480"/>
            <a:ext cx="3695760" cy="46483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" descr=""/>
          <p:cNvPicPr/>
          <p:nvPr/>
        </p:nvPicPr>
        <p:blipFill>
          <a:blip r:embed="rId2"/>
          <a:stretch/>
        </p:blipFill>
        <p:spPr>
          <a:xfrm>
            <a:off x="1066680" y="533520"/>
            <a:ext cx="3333960" cy="22096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0" descr=""/>
          <p:cNvPicPr/>
          <p:nvPr/>
        </p:nvPicPr>
        <p:blipFill>
          <a:blip r:embed="rId3"/>
          <a:stretch/>
        </p:blipFill>
        <p:spPr>
          <a:xfrm>
            <a:off x="1066680" y="3200400"/>
            <a:ext cx="335304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761760" y="1066320"/>
            <a:ext cx="784836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имар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ефузиј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лимф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елес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шупљ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г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ор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хв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еурал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кардијал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тонеал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упљи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Castleman-ova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ги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оликул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нодул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перпл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окализов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ниг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ор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рур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сци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лтицентр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г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мртоно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из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г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пош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рк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друж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Херпес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Б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вирус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609120"/>
            <a:ext cx="815328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е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љ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јму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ум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50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шл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тез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потре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јму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дицин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страживањ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ф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род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маћ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јму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гр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гребот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јму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ређ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раз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еријал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имптомат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људ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ћ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ум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гресив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тенциј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тал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хеморагиј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ијелити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енцефаломије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ок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фер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боратор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нцикл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ирект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естру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узим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ро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синтет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цес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пуш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мрт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кокут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окрета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мунопатолошк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дгов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лтиформ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и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омбоцит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мијелинизирају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ханиза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ерз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је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еопластич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нкоге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рансформа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)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ког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фаринге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јомиосар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8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ошије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уз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6705720" y="2286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09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е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кокут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сцерал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ентр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рв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ндр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Имунокомпромитован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</a:rPr>
              <a:t>особ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лоност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исемин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тиоло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лошк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HERPES SIMPLEX VIRU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лф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м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инокиселин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вен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тивис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мбр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н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плои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пат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ек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4-4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г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лон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ген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иш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шеједар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џиновск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нуклеус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уз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06632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шир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ита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род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ш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живот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9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к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к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олесцен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4.-29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-60% (80%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ш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-2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-2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0,65-15%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пул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прекид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1974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уч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543800" cy="62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ше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об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    температу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еросол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гу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е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и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ш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оном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ћ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циденц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окож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ирају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ет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лацентар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есио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оже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матоло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д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ре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лечењ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ити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з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ра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-1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цидив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4-7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куб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-1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пи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нгивостом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ератокоњунктив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ламациј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ntinuita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066320" y="-360"/>
            <a:ext cx="754380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реча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ем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семин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роф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шти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фер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дефициј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хватањ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сцерал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о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г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со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хваћ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оном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в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ак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г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гемин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1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г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рен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ч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-2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н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42560" y="-360"/>
            <a:ext cx="75438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aeaea"/>
                </a:solidFill>
                <a:latin typeface="Times New Roman"/>
              </a:rPr>
              <a:t>HERPESVIRUSI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42560" y="1268280"/>
            <a:ext cx="7543800" cy="525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10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, 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у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љењ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љу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ек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личи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еб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зис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ћ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им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и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љу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аз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erpes simplex tip 1 i 2, Varicella-zoster, Cytomegalovirus, Epstein-Barr virus i humani herpes virusi 6, 7 i 8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де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ормон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з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сих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у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суп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трифугал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фер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нзор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з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er continuitate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15328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мунопатолошк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збива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накр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е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ожњач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ер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дисе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з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де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нкоген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ло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ли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2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тн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еза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AutoShape 4"/>
          <p:cNvSpPr/>
          <p:nvPr/>
        </p:nvSpPr>
        <p:spPr>
          <a:xfrm>
            <a:off x="3733920" y="160020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990360" y="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алишућ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пш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ок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екурирајућ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алишућ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т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пш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т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окализац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кокут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ул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на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л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руг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Прем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патогенетском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механизму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настанк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762120" y="1219320"/>
          <a:ext cx="8001000" cy="5175000"/>
        </p:xfrm>
        <a:graphic>
          <a:graphicData uri="http://schemas.openxmlformats.org/drawingml/2006/table">
            <a:tbl>
              <a:tblPr/>
              <a:tblGrid>
                <a:gridCol w="2174760"/>
                <a:gridCol w="2930400"/>
                <a:gridCol w="2895840"/>
              </a:tblGrid>
              <a:tr h="82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арна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курентна</a:t>
                      </a:r>
                      <a:r>
                        <a:rPr b="0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0" lang="sr-R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225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rpes simplex virus tip 1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ingivostomat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eratoconjunctiv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uta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enit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Encephalitis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Herpes labial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Keratoconjunctiv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Kuta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Encephalitis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149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erpes simplex virus tip 2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enit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Kuta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Gingivostomat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ffff00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Neonatalni herpes mening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Genit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Proctiti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601"/>
                        </a:spcBef>
                        <a:buClr>
                          <a:srgbClr val="66ff33"/>
                        </a:buClr>
                        <a:buSzPct val="70000"/>
                        <a:buFont typeface="Wingdings" charset="2"/>
                        <a:buChar char="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Latn-CS" sz="2400" spc="-1" strike="noStrike">
                          <a:solidFill>
                            <a:srgbClr val="66ff33"/>
                          </a:solidFill>
                          <a:latin typeface="Times New Roman"/>
                        </a:rPr>
                        <a:t>Perianalni herpes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УКОКУТАН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A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Орофарингеал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имптомат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Ging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i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vost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o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mati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ti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s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herp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e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tica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seu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66ff33"/>
                </a:solidFill>
                <a:latin typeface="Times New Roman"/>
              </a:rPr>
              <a:t>aphtos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фт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цер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и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м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рвени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ику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ук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зи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гиона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лез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ку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ск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а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u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б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ч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ан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ференциј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ептокок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нукле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фт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а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нсент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teven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ohnsonov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ндр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1295280" y="776160"/>
            <a:ext cx="731520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7543800" cy="304776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2286000" y="3809880"/>
            <a:ext cx="541008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3" descr=""/>
          <p:cNvPicPr/>
          <p:nvPr/>
        </p:nvPicPr>
        <p:blipFill>
          <a:blip r:embed="rId1"/>
          <a:stretch/>
        </p:blipFill>
        <p:spPr>
          <a:xfrm>
            <a:off x="1066680" y="838080"/>
            <a:ext cx="701064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990360" y="-36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долесцен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рин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лича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тивној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нуклео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ур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лабиј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herpes labialis seu febrilis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фес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у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руп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у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у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ри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ид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олу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дију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с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-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лас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зокож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o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о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Građa i sastav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ли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уп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а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о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лектрон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скоп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Језгро</a:t>
            </a:r>
            <a:r>
              <a:rPr b="1" lang="sr-Latn-C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гласт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ланч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Протеински</a:t>
            </a:r>
            <a:r>
              <a:rPr b="1" lang="sr-Latn-C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омотач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озаед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етр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6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соме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уклеокапси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руж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спољашњ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омотач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ич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мб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отач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гликопротеински</a:t>
            </a:r>
            <a:r>
              <a:rPr b="1" lang="sr-Latn-C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шиљ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си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мотач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орф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ек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етр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ук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тегумен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586728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3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5438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3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24816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B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Гени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1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долесцен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лађ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ћ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њ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кул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но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цера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шкарц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а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ул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е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гви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зур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г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г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е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ш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раж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курент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генитал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ерпе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ије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з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3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Ц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.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Кута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ку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руг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гијам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ме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33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топијс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ституциј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1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i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Eczema herpeticu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ерат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хури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ц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голић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ш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ар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е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ин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-25%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Paronychia herpetic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мат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2590920" y="2438280"/>
            <a:ext cx="350496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ОКУЛАРН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066320" y="1371240"/>
            <a:ext cx="7543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утоиноку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Једностран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фоликуларни</a:t>
            </a:r>
            <a:r>
              <a:rPr b="1" i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оњунктив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гионалн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аде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кулоз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лефа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з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ератокоњунктивитис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херпес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ер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ц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ндрит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и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ц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рне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оз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Рекурент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ридоциклитис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нуве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НЕОНАТАЛНИ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ХЕРПЕС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на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ног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она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нат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местр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из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гин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ис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ми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б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нич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те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ната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rpes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iceral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лтиорга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дбубре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0-80%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ХЕРПЕС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СИМПЛЕ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X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ЕНЦЕФАЛИТИС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320" y="838080"/>
            <a:ext cx="75438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орад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улт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тоанатом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ор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онтотемпорал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з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ор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нтра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ракц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мент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ализациј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лн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т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етентн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0720" indent="-277200">
              <a:lnSpc>
                <a:spcPct val="100000"/>
              </a:lnSpc>
              <a:spcBef>
                <a:spcPts val="499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чи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и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тикул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ђућелијском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р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крив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ген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зентујућ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aeaea"/>
                </a:solidFill>
                <a:latin typeface="Times New Roman"/>
              </a:rPr>
              <a:t>HSV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на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електронској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микроскопији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14" name="Picture 3" descr=""/>
          <p:cNvPicPr/>
          <p:nvPr/>
        </p:nvPicPr>
        <p:blipFill>
          <a:blip r:embed="rId1"/>
          <a:stretch/>
        </p:blipFill>
        <p:spPr>
          <a:xfrm>
            <a:off x="1225440" y="2432160"/>
            <a:ext cx="7226280" cy="32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нт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рад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ор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ст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ff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штећ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јекцио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лак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ети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линс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узим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епт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апти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ст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по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електр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ала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Е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обо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чн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а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уз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ј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фаз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лизов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лепт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ад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е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ли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еди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ниј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ипаре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ипле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те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вул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ронтал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жа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ј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фуз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ет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мће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хва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убит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ро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финктер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латентног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лепоочн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регион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ждано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стаб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фа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мин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фа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ијент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ж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п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ти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СВ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1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гМ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о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ет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5%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9%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ју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т</a:t>
            </a:r>
            <a:r>
              <a:rPr b="1" lang="sr-RS" sz="20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серум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/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т</a:t>
            </a:r>
            <a:r>
              <a:rPr b="1" lang="sr-RS" sz="20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&lt;20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к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.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ЦР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у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ЦСТ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ХСВДНК</a:t>
            </a:r>
            <a:r>
              <a:rPr b="1" lang="sr-Latn-CS" sz="20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ЕЕГ</a:t>
            </a:r>
            <a:r>
              <a:rPr b="1" lang="sr-Latn-C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Т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Антиедемск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сигенац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дизањ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глављ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пирање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омоторног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ир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конвулзив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нитол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уросемид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пиретици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Ацикловир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0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g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Latn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Јединице</a:t>
            </a:r>
            <a:r>
              <a:rPr b="1" lang="sr-Latn-C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интезивног</a:t>
            </a:r>
            <a:r>
              <a:rPr b="1" lang="sr-Latn-C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лечењ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ор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-9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-3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живе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о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их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екту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в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леп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360" y="763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ОСТАЛЕ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АНИФЕСТА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320" y="12949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епт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нинг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ерз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је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неумо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п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x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труд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С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о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емин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утер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ст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врем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нт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ач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ртворођен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990360" y="99036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уд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ирајућ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гле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јал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к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гативан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љи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рш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ро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ктивн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ар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нфекције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мунокомпромитованих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лан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иотерапиј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пролифератив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штеће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м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удн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сце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семин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зофа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неумо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грес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укокут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AutoShape 4"/>
          <p:cNvSpPr/>
          <p:nvPr/>
        </p:nvSpPr>
        <p:spPr>
          <a:xfrm>
            <a:off x="3581280" y="4267080"/>
            <a:ext cx="486000" cy="747720"/>
          </a:xfrm>
          <a:prstGeom prst="downArrow">
            <a:avLst>
              <a:gd name="adj1" fmla="val 50000"/>
              <a:gd name="adj2" fmla="val 38463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пат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фека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у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к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1-7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окулац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пти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терија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ж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џинов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нуклеус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уз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,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ап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g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C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нч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из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ош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ерија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б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цикл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0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00-400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ј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7-1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и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ж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потре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м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оискористљив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валацицловир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пенцицловир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фамцицл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фос</a:t>
            </a:r>
            <a:r>
              <a:rPr b="1" lang="sr-Latn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k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арн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0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ими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филак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клов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ЦИТОМЕГАЛОВИРУСН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1066320" y="765000"/>
            <a:ext cx="754380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ланч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не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м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чит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те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пепти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ств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ђ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тет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ли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з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мер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мид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н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з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орпорис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5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козаедар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метр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воланч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не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љ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ук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оф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до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пите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цепт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љ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кроглобули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ртику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држ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анћелијс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стор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ектуј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уму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ем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рл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ктив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   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In vitro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сл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ул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ум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броблас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vivo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л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каз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з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ч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строинтестинал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ућ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креа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доте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ази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актеристич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ек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нуклеус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плазматск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клуз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рануклеу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лу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виру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ва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е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џинов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мегал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ћима</a:t>
            </a:r>
            <a:endParaRPr b="1" lang="en-US" sz="24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175" name="Picture 3" descr=""/>
          <p:cNvPicPr/>
          <p:nvPr/>
        </p:nvPicPr>
        <p:blipFill>
          <a:blip r:embed="rId1"/>
          <a:stretch/>
        </p:blipFill>
        <p:spPr>
          <a:xfrm>
            <a:off x="2590920" y="2209680"/>
            <a:ext cx="35859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шир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иј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50-8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укуп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пул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0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вор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звиј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ем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пози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н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уч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р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иц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з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е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ног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990360" y="3805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Путеви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траутери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в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имес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ноћ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тељиц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на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ђа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рођенч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стна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е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еб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устру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школско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е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долесцен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драсл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до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ив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пла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а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а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зофарин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н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-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чај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ем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рж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укоци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нус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убул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г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ес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ид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ур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066320" y="9903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компетен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маћ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апарент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ар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гоци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т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те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ет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ио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компет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00ff00"/>
                </a:solidFill>
                <a:latin typeface="Times New Roman"/>
              </a:rPr>
              <a:t>Асимптомат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3300"/>
                </a:solidFill>
                <a:latin typeface="Times New Roman"/>
              </a:rPr>
              <a:t>Синдром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</a:rPr>
              <a:t>инфективне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</a:rPr>
              <a:t>мононукле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атолош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стик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могу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лико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нукле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нукле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ни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неуритис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синдром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Latn-RS" sz="2400" spc="-1" strike="noStrike">
                <a:solidFill>
                  <a:srgbClr val="ff66ff"/>
                </a:solidFill>
                <a:latin typeface="Times New Roman"/>
              </a:rPr>
              <a:t>Guilain-Barr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е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нејасно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фебрилно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стање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миокардитис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хемолизна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анемија</a:t>
            </a:r>
            <a:r>
              <a:rPr b="1" lang="sr-Latn-CS" sz="2400" spc="-1" strike="noStrike">
                <a:solidFill>
                  <a:srgbClr val="ff66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66ff"/>
                </a:solidFill>
                <a:latin typeface="Times New Roman"/>
              </a:rPr>
              <a:t>тромбо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моограничавај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д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гени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ат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ур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ј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-10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ворођенч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обачај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мр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етус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генитал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форм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енерализова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раг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AutoShape 3"/>
          <p:cNvSpPr/>
          <p:nvPr/>
        </p:nvSpPr>
        <p:spPr>
          <a:xfrm>
            <a:off x="3733920" y="3657600"/>
            <a:ext cx="485640" cy="685800"/>
          </a:xfrm>
          <a:prstGeom prst="downArrow">
            <a:avLst>
              <a:gd name="adj1" fmla="val 50000"/>
              <a:gd name="adj2" fmla="val 35304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Пренатална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ориоретинитис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кроцефал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ск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рпу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ад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љ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с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остај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уво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еринат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а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ојч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066320" y="620280"/>
            <a:ext cx="7543800" cy="5475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АСИФ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лош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ин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ccff"/>
                </a:solidFill>
                <a:latin typeface="Times New Roman"/>
              </a:rPr>
              <a:t>Алфахерпесвируси</a:t>
            </a:r>
            <a:r>
              <a:rPr b="1" lang="sr-Latn-CS" sz="2400" spc="-1" strike="noStrike">
                <a:solidFill>
                  <a:srgbClr val="66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з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ази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лиз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епител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ћел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фибробл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</a:rPr>
              <a:t>неурон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erpes simplex viru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aricella-zoster 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ccff"/>
                </a:solidFill>
                <a:latin typeface="Times New Roman"/>
                <a:ea typeface="Times New Roman"/>
              </a:rPr>
              <a:t>Бетахерпес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мегал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сив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ибробл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неутрофилима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66ff33"/>
                </a:solidFill>
                <a:latin typeface="Times New Roman"/>
                <a:ea typeface="Times New Roman"/>
              </a:rPr>
              <a:t>моноци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ytomegalovir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компромитов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штећ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елулар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оно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акон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плант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брил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ук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ј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зофа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и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супрес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фека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испон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ктериј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љив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106632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+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хваћ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строинтестин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зофа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тер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Н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ин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CMV chorioreti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2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и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1905120" y="2057400"/>
            <a:ext cx="25430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066320" y="456840"/>
            <a:ext cx="75438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поуз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честал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симптомат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курент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новр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зе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томегал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димен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р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ува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ункта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ренхим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г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поузд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у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мбрион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броблас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р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др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ерви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р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к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бележ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кло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Ц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ст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Л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990360" y="30492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виру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ромитов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иво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а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скарн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доф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99ff33"/>
                </a:solidFill>
                <a:latin typeface="Times New Roman"/>
                <a:ea typeface="Times New Roman"/>
              </a:rPr>
              <a:t>ган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12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зис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оскарн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дофови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евен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тив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посл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одилиш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дијатриј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ељењ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даниш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танов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школс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ц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рик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ровођ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гијенс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нега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ао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нега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о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нега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о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↑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MV I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виру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профила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позитив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вао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360" y="2286000"/>
            <a:ext cx="75438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800" spc="-1" strike="noStrike">
                <a:solidFill>
                  <a:srgbClr val="eaeaea"/>
                </a:solidFill>
                <a:latin typeface="Times New Roman"/>
              </a:rPr>
              <a:t>Epstein-Barr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вирусн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инфекције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066320" y="30492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ИНФЕКТИВНА</a:t>
            </a:r>
            <a:r>
              <a:rPr b="1" i="1" lang="sr-Latn-C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800" spc="-1" strike="noStrike">
                <a:solidFill>
                  <a:srgbClr val="ffff00"/>
                </a:solidFill>
                <a:latin typeface="Times New Roman"/>
              </a:rPr>
              <a:t>МОНОНУКЛЕОЗА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66320" y="121932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икулоендотел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атич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ков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Epstein-Barr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ovim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virida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б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иц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енств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б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прес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цепт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ликации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уклеус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EBVN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тралишу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(6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.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чет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а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EBVE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плика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о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з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ембран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EBVMA)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ављ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аз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нача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ављ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јагн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рускапсид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EBVVCA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Ig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ва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еђ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VCA Ig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0-90%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а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.-6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имптомат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14.-20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зерво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ов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цонош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пози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р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д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гиозно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ш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реб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и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здуш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љ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и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љуба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фу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в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6080" indent="-25992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5" name="Picture 3" descr="2caf9f36d57137476d1290e3b22c7549"/>
          <p:cNvPicPr/>
          <p:nvPr/>
        </p:nvPicPr>
        <p:blipFill>
          <a:blip r:embed="rId9"/>
          <a:stretch/>
        </p:blipFill>
        <p:spPr>
          <a:xfrm>
            <a:off x="6400800" y="2133720"/>
            <a:ext cx="18097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ринге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скре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5-2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дра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ас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ринге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цоно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очас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јев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ринк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тич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лаз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пље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066320" y="228600"/>
            <a:ext cx="7543800" cy="63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66ccff"/>
                </a:solidFill>
                <a:latin typeface="Times New Roman"/>
              </a:rPr>
              <a:t>Гамахерпесвирус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о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плик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и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аћ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њихов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ормациј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Epstein-Barr-ov v irus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лез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Humani herpes virusi 6 i 7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+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отро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ж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в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укокута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ид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ган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пролифератив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посед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ет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“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обо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лаз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м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циркул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ва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куб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ши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ита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ретикул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раж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ДЦ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ециф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ресор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токс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гово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наж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кло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ножавањ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мрт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скона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об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5438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упресор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хиби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цитотоксич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алиш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окир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инфици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ркулац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јављ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К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лектив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биј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др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драв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ицира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ду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рофаринк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лобађ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љува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отрај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т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90360" y="838080"/>
            <a:ext cx="75438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Хистопатолошк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налаз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перпла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во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куб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4-8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7-1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рек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ог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факт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во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ређ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љењ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1" name=""/>
          <p:cNvGraphicFramePr/>
          <p:nvPr/>
        </p:nvGraphicFramePr>
        <p:xfrm>
          <a:off x="1066680" y="0"/>
          <a:ext cx="7543800" cy="6781680"/>
        </p:xfrm>
        <a:graphic>
          <a:graphicData uri="http://schemas.openxmlformats.org/drawingml/2006/table">
            <a:tbl>
              <a:tblPr/>
              <a:tblGrid>
                <a:gridCol w="3772080"/>
                <a:gridCol w="3771720"/>
              </a:tblGrid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Примарна</a:t>
                      </a:r>
                      <a:r>
                        <a:rPr b="1" i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r>
                        <a:rPr b="1" lang="sr-Latn-CS" sz="24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Реактивирана</a:t>
                      </a:r>
                      <a:r>
                        <a:rPr b="1" i="1" lang="sr-Latn-C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 </a:t>
                      </a:r>
                      <a:r>
                        <a:rPr b="1" i="1" lang="sr-RS" sz="20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симптоматск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ероконверз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Burkitt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лимф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фектив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ононуклеоз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Назофарингеални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карцин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ронич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фектив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ононуклеоз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Рекурентни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паротити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Примар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атипичн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ЕБВ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инфекц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Лимфопролиферативне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болести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За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X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ромозом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везани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лимфопролиферативни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индр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Интерстицијални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пнеумонити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Гениталне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улцерације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Увеитис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Хемофагиоцитни</a:t>
                      </a:r>
                      <a:r>
                        <a:rPr b="1" lang="sr-Latn-C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синдром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Орална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власаста</a:t>
                      </a:r>
                      <a:r>
                        <a:rPr b="1" lang="sr-Latn-C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 </a:t>
                      </a:r>
                      <a:r>
                        <a:rPr b="1" lang="sr-RS" sz="2400" spc="-1" strike="noStrike">
                          <a:solidFill>
                            <a:srgbClr val="99ff33"/>
                          </a:solidFill>
                          <a:latin typeface="Times New Roman"/>
                        </a:rPr>
                        <a:t>леукоплакија</a:t>
                      </a:r>
                      <a:endParaRPr b="1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/>
          </p:nvPr>
        </p:nvSpPr>
        <p:spPr>
          <a:xfrm>
            <a:off x="990360" y="228240"/>
            <a:ext cx="754380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ојч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ч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симптоматск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90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роконверз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5-2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нфектив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нуклео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и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ле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1-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сеудомембрано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ерализова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воро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Лимфаденопат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изразит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т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г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ре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ке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вор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етрично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гуларн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ЦМ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шић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гландулар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г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уг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г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силар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пон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хеобронхиј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зентериј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лик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р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еж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наж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д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рбит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д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па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-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aglandov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зна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</a:rPr>
              <a:t>Анг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кун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сеудомембраноз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лаг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нзила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ро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п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зил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зрокова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ам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вирус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и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ол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ог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роч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ер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с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ра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троф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нзи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офарингеал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пстру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457200" y="1219320"/>
            <a:ext cx="4038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Angina confluens s. pseudomembranac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915080" y="1219320"/>
            <a:ext cx="39240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Angina lacunar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6" name="Picture 4" descr="prostom02"/>
          <p:cNvPicPr/>
          <p:nvPr/>
        </p:nvPicPr>
        <p:blipFill>
          <a:blip r:embed="rId1"/>
          <a:stretch/>
        </p:blipFill>
        <p:spPr>
          <a:xfrm>
            <a:off x="762120" y="1447920"/>
            <a:ext cx="3429000" cy="24476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5" descr="Angina_atticus"/>
          <p:cNvPicPr/>
          <p:nvPr/>
        </p:nvPicPr>
        <p:blipFill>
          <a:blip r:embed="rId2"/>
          <a:stretch/>
        </p:blipFill>
        <p:spPr>
          <a:xfrm>
            <a:off x="4724280" y="1447920"/>
            <a:ext cx="335304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066320" y="533520"/>
            <a:ext cx="7543800" cy="67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лен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кор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мега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5-2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их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рз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в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р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ћ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ран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лпац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зистен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Несталн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1" lang="sr-R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знаци</a:t>
            </a:r>
            <a:r>
              <a:rPr b="1" lang="sr-Latn-C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етехијални</a:t>
            </a:r>
            <a:r>
              <a:rPr b="1" lang="sr-Latn-C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енан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врд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ц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а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икте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уло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ос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кстремите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улопапулоз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че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пицилин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и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конвалесцен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-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AutoShape 3"/>
          <p:cNvSpPr/>
          <p:nvPr/>
        </p:nvSpPr>
        <p:spPr>
          <a:xfrm>
            <a:off x="3429000" y="1447920"/>
            <a:ext cx="485640" cy="609480"/>
          </a:xfrm>
          <a:prstGeom prst="downArrow">
            <a:avLst>
              <a:gd name="adj1" fmla="val 50000"/>
              <a:gd name="adj2" fmla="val 31375"/>
            </a:avLst>
          </a:prstGeom>
          <a:solidFill>
            <a:srgbClr val="66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еб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мите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м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д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веде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ављ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јед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инант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лико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де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л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фарингеал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(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ангиноз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ландулар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ифоидни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птич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19960" indent="-22392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рв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066320" y="0"/>
            <a:ext cx="7543800" cy="731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значајниј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ст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а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живо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маћи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ле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риц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ст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ензор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гангл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tomegalovirus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трофил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pstein-Barr virus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љувачних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жлезд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i herpes 6, 7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umani herpes 8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ононуклеар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трахромозомск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гу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мозом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г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Epstein-Bar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ениг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тпу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здрављ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9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учај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е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ат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оиму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ли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Неу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инг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нинго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ирадикулонеу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рди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клинич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окард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Рена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стиц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фр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Пулм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стиц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неумон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пат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суфициј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1066320" y="6094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Руптур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слез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т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т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емофагоцитн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онтролис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фер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нонуклеар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гоци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ст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с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вор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гоцит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атопоет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ћел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нцитопен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р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етен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ту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б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пту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ези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ролошк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во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фагоци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ндр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761760" y="75960"/>
            <a:ext cx="7848360" cy="662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плант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с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рж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    инфекц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лиг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Малигн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д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коге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јст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т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кив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офаринге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рци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urkitt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odgkin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хроничног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ум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лађ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6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се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центр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лавобољ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ј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ртралг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аденопати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спленомегалиј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СВ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coplasm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neumoni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емећа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ре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он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со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тро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г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1066320" y="151920"/>
            <a:ext cx="7543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лтразву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бух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атолош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укоцит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ла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псол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типич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вироци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”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в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брежаст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ар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итоплаз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ледопл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акуолизи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нушас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луен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б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иохемиј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лаз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80%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Д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%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ни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лируб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↑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кте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55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ол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у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рифер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ути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кази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г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клон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тит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Ц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бридизац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то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т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ступ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лиз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Paul-Bunell-ov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глутин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вчиј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итроци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специфича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с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зитив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дељ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85-90%)-4x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ра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т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азмак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10-14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Ант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sr-Latn-RS" sz="2400" spc="-1" strike="noStrike">
                <a:solidFill>
                  <a:srgbClr val="ffff00"/>
                </a:solidFill>
                <a:latin typeface="Times New Roman"/>
              </a:rPr>
              <a:t>VCA IgM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00"/>
                </a:solidFill>
                <a:latin typeface="Times New Roman"/>
              </a:rPr>
              <a:t>ELISA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ј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стиж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.-4.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зи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2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ртикостероид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ткотрај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ут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пстру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утоиму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молиз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ем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омбоцитопен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ров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ал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п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пиретиц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лкохо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епатотоксич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ко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пер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рњ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исај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е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бегав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мпицили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ролид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тибио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ffff00"/>
                </a:solidFill>
                <a:latin typeface="Times New Roman"/>
              </a:rPr>
              <a:t>HERPES ZOSTER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663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тент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ш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пич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зикулоз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гзантем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у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дређе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рмат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Varicella-zoster virus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ми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vir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dae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ављ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едина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зонск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љ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њ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ч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и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1066320" y="152280"/>
            <a:ext cx="75438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ст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б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и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лиг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супрес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рап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сихич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изичк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п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Патогене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имо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атен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З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рз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лов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н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англи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аниј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в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лабљ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лулар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и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сцедент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ир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со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ермат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ич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ж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066320" y="685800"/>
            <a:ext cx="75438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а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с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друч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хваће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рмато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еч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ез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шта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обадајућ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л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аб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агу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аналге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гзан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хваће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рматом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и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акулопапу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зику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рус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ме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дностран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етент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врш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7-1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ромитов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сл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дељ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јчешћ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равертебр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кализ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а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ж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ркостал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р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рви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умб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крал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1066320" y="914040"/>
            <a:ext cx="75438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 zoster thora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2" name="Picture 3" descr="Herpes_Zoster-ZZ"/>
          <p:cNvPicPr/>
          <p:nvPr/>
        </p:nvPicPr>
        <p:blipFill>
          <a:blip r:embed="rId1"/>
          <a:stretch/>
        </p:blipFill>
        <p:spPr>
          <a:xfrm>
            <a:off x="4724280" y="1066680"/>
            <a:ext cx="340992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066320" y="533160"/>
            <a:ext cx="75438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во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човек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ив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пликац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ма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л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актива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оношт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и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готрај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ру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молаби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о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етљи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љашњ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ед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↓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опхо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блиск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ихов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ноше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љуба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ксу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енитоор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ак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ртика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нсмис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М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фуз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рви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трансплантације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	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орг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" descr="File:Herpes zoster back.pn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1447920"/>
            <a:ext cx="632448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762120" y="1905120"/>
            <a:ext cx="3695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 zoster cervic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14720" y="1981080"/>
            <a:ext cx="369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6" name="Picture 4" descr="2007-08_09-01"/>
          <p:cNvPicPr/>
          <p:nvPr/>
        </p:nvPicPr>
        <p:blipFill>
          <a:blip r:embed="rId1"/>
          <a:stretch/>
        </p:blipFill>
        <p:spPr>
          <a:xfrm>
            <a:off x="4649760" y="1447920"/>
            <a:ext cx="4008600" cy="46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6"/>
          <p:cNvPicPr/>
          <p:nvPr/>
        </p:nvPicPr>
        <p:blipFill>
          <a:blip r:embed="rId1"/>
          <a:stretch/>
        </p:blipFill>
        <p:spPr>
          <a:xfrm>
            <a:off x="1600200" y="1295280"/>
            <a:ext cx="6432480" cy="428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1066320" y="762120"/>
            <a:ext cx="75438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раниј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рв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n. facialis, n. trigemin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 zoster ophtalm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фталм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игемин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л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рби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о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с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29" name="Picture 3" descr="art-sm458361"/>
          <p:cNvPicPr/>
          <p:nvPr/>
        </p:nvPicPr>
        <p:blipFill>
          <a:blip r:embed="rId5"/>
          <a:stretch/>
        </p:blipFill>
        <p:spPr>
          <a:xfrm>
            <a:off x="5867280" y="1752480"/>
            <a:ext cx="311796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/>
          </p:nvPr>
        </p:nvSpPr>
        <p:spPr>
          <a:xfrm>
            <a:off x="1066320" y="837720"/>
            <a:ext cx="7543800" cy="632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pres zoster otic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ксилар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г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ву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п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нзи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Мандибуларна</a:t>
            </a:r>
            <a:r>
              <a:rPr b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00"/>
                </a:solidFill>
                <a:latin typeface="Times New Roman"/>
              </a:rPr>
              <a:t>гр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зни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с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упљ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с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Herpes zoster geniculatu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нзор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анг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n. facialis-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о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х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ждрел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руп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ољашњ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луш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однику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а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e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n. facialis-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Дисеминовани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i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ff"/>
                </a:solidFill>
                <a:latin typeface="Times New Roman"/>
              </a:rPr>
              <a:t>зостер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шћ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дефицијент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к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аће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сцерал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исеминациј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1066320" y="228240"/>
            <a:ext cx="75438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омплик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стхерпетич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рал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уролош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нингоенцефалити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верз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ије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неумонија</a:t>
            </a:r>
            <a:r>
              <a:rPr b="1" lang="sr-Latn-C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ег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ELIS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VZV-Ig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Лече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мунокомпетентни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</a:rPr>
              <a:t>”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800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у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нев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7-1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мунокомпромитов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цикловир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10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g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8</a:t>
            </a:r>
            <a:r>
              <a:rPr b="1" lang="sr-Latn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/7-10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птоматс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рап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ал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итами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гети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66320" y="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Инфекциј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узроковане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1" lang="sr-RS" sz="2800" spc="-1" strike="noStrike">
                <a:solidFill>
                  <a:srgbClr val="eaeaea"/>
                </a:solidFill>
                <a:latin typeface="Times New Roman"/>
              </a:rPr>
              <a:t>ХХВ</a:t>
            </a:r>
            <a:r>
              <a:rPr b="1" lang="sr-Latn-CS" sz="2800" spc="-1" strike="noStrike">
                <a:solidFill>
                  <a:srgbClr val="eaeaea"/>
                </a:solidFill>
                <a:latin typeface="Times New Roman"/>
              </a:rPr>
              <a:t>-6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т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сти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рпе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ом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уклеотид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квенц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међ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6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Х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8 75-97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ултивиса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ум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ци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крофаг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гакариоцит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мбрионал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л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ћелија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Б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нсформисан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мфоцитим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Епидемиологиј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е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очни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ц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чиј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б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4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есец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3.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зраст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арије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етет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преваленц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95%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порадичн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о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читав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оди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шт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ш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ећ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јесе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92468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нос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лиск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такт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ициран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об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луч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љувач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ели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Клиничко</a:t>
            </a:r>
            <a:r>
              <a:rPr b="1" i="1" lang="sr-Latn-CS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испољавањ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00ffff"/>
                </a:solidFill>
                <a:latin typeface="Times New Roman"/>
              </a:rPr>
              <a:t>Exanthema subitum (Roseola infantum),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одне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оз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ебри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ише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лес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мперату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ек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иперпиректич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ерзистир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3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5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ип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тину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лив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враћ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вулзи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ост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здражљивос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изикал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ла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куд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иперем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дре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већањ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ратн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г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кад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нанте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к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пц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685440" y="533520"/>
            <a:ext cx="792468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ип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ад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емперату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ав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п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јављу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јпр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еђим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задњо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ан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рат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з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шир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редњ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ран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уп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кстремитет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иц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топал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остају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штеђен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рфолог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кулопапул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Тра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2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а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брз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повлач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сти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редослед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ко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бија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бораторијс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арактеристик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ебри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укоцит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утрофилиј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ип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а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→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еукопениј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мфоцитозом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к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олести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ениган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ћи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олелих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),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гноз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1066320" y="304560"/>
            <a:ext cx="754380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Друг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анифестац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антил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грозниц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Фебрилне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онвулзије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Енцефал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нфективн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мононукле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патити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индром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роничног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ум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2400" spc="-1" strike="noStrike">
                <a:solidFill>
                  <a:srgbClr val="ffff00"/>
                </a:solidFill>
                <a:latin typeface="Times New Roman"/>
              </a:rPr>
              <a:t>Дијагноз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Клинич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абораторијс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Хематоло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Серолошк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олошка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из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o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л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циј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sr-RS" sz="2400" spc="-1" strike="noStrike">
                <a:solidFill>
                  <a:srgbClr val="ffffff"/>
                </a:solidFill>
                <a:latin typeface="Times New Roman"/>
              </a:rPr>
              <a:t>вирус</a:t>
            </a:r>
            <a:r>
              <a:rPr b="1" lang="sr-Latn-CS" sz="2400" spc="-1" strike="noStrike">
                <a:solidFill>
                  <a:srgbClr val="ffffff"/>
                </a:solidFill>
                <a:latin typeface="Times New Roman"/>
              </a:rPr>
              <a:t>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18:33:31Z</dcterms:created>
  <dc:creator>MF</dc:creator>
  <dc:description/>
  <dc:language>en-US</dc:language>
  <cp:lastModifiedBy>klinika</cp:lastModifiedBy>
  <dcterms:modified xsi:type="dcterms:W3CDTF">2023-10-30T17:56:03Z</dcterms:modified>
  <cp:revision>356</cp:revision>
  <dc:subject/>
  <dc:title>Slide 1</dc:title>
</cp:coreProperties>
</file>